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C1B1-2424-4666-8EEA-C055B8F7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059E-45E7-41BD-8338-1897352C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FABA8C-1F41-484C-9FEC-E8061CAC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640F0E-2DD0-428D-967F-C49C07D0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D5CEDF-E3C3-4ABC-8188-DFE855B7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6EF99A-F5DD-4851-8753-6C091A90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DFC32D-BBD5-43C8-AD71-8705449A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69AB6A-6C6A-4701-AF61-E540A590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ABCB2B-0DF8-4731-BDC3-70597CA9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95B7A8-3819-46A7-906E-CCBAF29E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68E55C-4922-40FA-9A86-1127C614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E19-142F-4A1D-A5B6-ABD4E7B7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623C-C869-437C-83EC-2BF0B18A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96B4B-520E-4FBC-8096-C43FB22E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E50EE-5EC6-46C5-B26A-B9C0B71C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4F774-F0FD-42E4-A5B5-AB5E7F99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E5F85-939E-496F-B5D6-3A13C0C0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B72DF-F6BE-4F85-93EE-95A40285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EBB38-38D4-49AB-9A8A-8D4E6F7C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AEDC3-B944-4F11-B628-40C7545F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2207-3E32-45EE-A11F-5D52CFB3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7555A-4E12-48C6-974A-F63A751A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830F0-D04E-489A-990C-259319F2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3BA2C-7806-4111-AC20-F2B2E61D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FBF02-AFCC-4204-B52B-295C0A34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846E5-AE11-48BA-9E4D-AC6BE9B1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16D9B-A4DA-4CA4-BA79-EA543B06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C13A4-093A-464F-97BF-8C7C16B8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54806-C7B5-43ED-8803-022A119B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89924-19E3-4327-8F94-994D4F0B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13F6E-6AE3-4715-9BB1-8A3BF908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7B21-DE4B-4945-9A71-0DE91BB9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3AF1B-D581-4D01-8C54-9A8BDEF4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C387D-229F-4C0B-93DA-238AA9BA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DBBE7-5763-4E64-AEA3-41359B30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EEBE4-2D81-42FA-A590-83AB46A5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89F07-006E-4470-9C21-E8830B27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DE861-CE40-4DF0-8EBF-F456BB6C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A707B-5B63-4310-8915-E3231CD9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E9B77F-AA77-401F-86CF-1A27E9CC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0B9F57-952F-4A9E-81A0-D8F7FE0B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3BDA5C-DA58-4E70-B370-AC905364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4ADB-BEF3-4905-B88A-8B63CF80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9E92AD-898C-445F-BE5B-E30E7AB5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BEB111-4C37-4C0B-AE66-D57F34AC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DAF21E-1E2B-42AC-9F44-52426380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B2B742-EA8C-4524-8E0D-7E407F50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E1FA55-3842-4ED5-9F93-787755B3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7F1D18-8EDE-4903-A310-B4143816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F242D5-FF8A-4D1A-96EF-C3EB9926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E65EAB-4399-4A2A-A22B-36B40426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EB2877-8D34-45E5-9187-7757A197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9C8EA-D551-4A71-9A43-167760F7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F48-752C-4995-9F36-45BE3B4E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FBFD3-DA2B-479F-AF2E-6E6013AA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46E47-6D45-4D52-8179-B25AC3C3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93E2B-8410-40FD-B681-E7BD0081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BB2FE-75BA-4843-A120-F8977FD0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FB9CB-6542-4C67-8A75-279F2395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79066-B91C-4572-BB90-33180CF4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B136A-5B23-4BC8-9C44-94A442E5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75764-1477-429B-A8BA-E2ADF05C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2104D-4616-4523-A3FB-F2888BFE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C75B7-669B-4659-B287-76794C28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F134-8458-447E-8681-44F6F836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DF27F-F2A6-4922-9421-F1D55137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E1964-258C-4F56-AD71-2DC478B7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194FC-1E05-4E02-9612-7EF02545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34BA9-1943-4B81-95D6-E31DA499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B0C6B-272E-46FE-9F02-E2AAAE5F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0663C-5EBE-4759-8364-80B555FA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D565B-6A8B-4143-A59D-3CB68E3E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639C5-6A01-4CF9-8719-5E45A235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4C25D-C010-4257-B1BB-6D593666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D53E5-6C27-43D5-BD9E-A0089E7F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467-7473-4898-BA1D-444499DB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742A4-2120-48B1-86CD-105540A9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6571F-C13E-4FCB-B39D-98594B5C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C3A83-DE32-46AE-B897-BE38381B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401A2-EA0F-4E43-A303-31F326CE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BDDF0-EBF7-4E44-A324-6A9C8CFD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7ECDD-C9DA-4F2B-83C0-F6AA334B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EF1B2-188E-47F2-AE7F-2DD4BD5E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3D0F7-FA4E-4914-942A-2F34D605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EC9DB-40D0-4D47-A84C-9BB58D44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B78C8-E91C-4DAC-9ABA-A1F9CA26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3F14-3965-4AC5-9A4E-0406DBAA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01E49-938E-40B9-B1EA-929CC665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59217-B736-43A5-9D21-EE7E8733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B0AC9-FDFC-4BFD-8D90-B2BF99D7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FDB38-B7AD-47EC-8EAE-64BB6732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08D6C-FE8B-48B7-8D4B-5182B49C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7B2D46-3E91-4050-A10E-FDF27DAD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6263C3-371A-423E-8607-ACF1EC67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F8AECC-233F-42DF-8AA7-D5E88AB6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C424B6-EC44-4235-BBDF-D52C02EA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8AA785-A250-4024-B377-8442714F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340F-4883-4C5C-97B6-B771AC28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9D9D9E-770E-492F-8817-F62CFE1C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1FDBCC-6768-4357-932C-3B120D9B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B4934A-35FA-4F9D-8761-69C184D8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78F1D5-D060-4534-9A19-75795B73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251CB9-70BB-48E1-BE73-C0503DD0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5086FE-BFBC-4547-AF94-99B7D127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03C89F-B1BD-4647-9552-0E114337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CAF95A-5FBC-4C33-A1EF-F350F26F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8C35F3-ACC8-486A-B0B6-C4CBD9D4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C530D4-D714-4F93-8734-571EC77A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CDD8-7D64-4BD5-8569-FBDFE97151A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8" name="Прямоугольник с двумя скругленными противолежащими углами 7" descr=""/>
            <p:cNvPicPr/>
            <p:nvPr/>
          </p:nvPicPr>
          <p:blipFill>
            <a:blip r:embed="rId4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5C44-971D-4EBD-A6B9-573738BFE76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2B1E-3B9B-401E-950D-8BBDC0B5B13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FBF3-592A-4E0E-A782-04B8BAA3AC5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8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D4A2-7208-44E3-9E2B-060A3A37417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432D-FE29-4549-92B3-A71BE8CC01E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3A3B-721C-42CB-908E-79448CD982C1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55C4-192D-4F2F-9DFE-420ADB291E53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2A77-F7A8-4AF8-9D36-FBC3658D26C1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017960" y="1316160"/>
            <a:ext cx="4218120" cy="320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rcRect l="22719" t="12251" r="25036" b="14260"/>
          <a:stretch/>
        </p:blipFill>
        <p:spPr>
          <a:xfrm>
            <a:off x="857160" y="1000080"/>
            <a:ext cx="307188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71280" y="571500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ый 1812 год. Он связан с нашествием Наполеона. Несколько блестящих побед сделали его одним из самых известных людей Франции. Наполеон стремился к всемирному господств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07084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"/>
          <p:cNvSpPr/>
          <p:nvPr/>
        </p:nvSpPr>
        <p:spPr>
          <a:xfrm>
            <a:off x="0" y="59130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страны, подвластные Наполеон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е страны не покорились Наполеону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то оберегало Англию от сильной французск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-60480" y="244440"/>
            <a:ext cx="9990360" cy="48704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221040" y="6357960"/>
            <a:ext cx="37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значает название темы уро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81160" y="4925880"/>
            <a:ext cx="8484840" cy="115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14720" y="285840"/>
            <a:ext cx="3927240" cy="50720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4"/>
          <p:cNvSpPr/>
          <p:nvPr/>
        </p:nvSpPr>
        <p:spPr>
          <a:xfrm>
            <a:off x="142920" y="602856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армии, и в народе всё чаще, всё громче говорили о полководце, который поведёт русские войска к победе, к спасению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" descr="C:\Documents and Settings\Admin\Рабочий стол\200px-Kutuzovborodino.jpg"/>
          <p:cNvPicPr/>
          <p:nvPr/>
        </p:nvPicPr>
        <p:blipFill>
          <a:blip r:embed="rId1"/>
          <a:stretch/>
        </p:blipFill>
        <p:spPr>
          <a:xfrm>
            <a:off x="285840" y="285840"/>
            <a:ext cx="4795920" cy="3500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Admin\Рабочий стол\200px-Vereshagin.Napoleon_near_Borodino.jpg"/>
          <p:cNvPicPr/>
          <p:nvPr/>
        </p:nvPicPr>
        <p:blipFill>
          <a:blip r:embed="rId2"/>
          <a:srcRect l="7795" t="0" r="0" b="0"/>
          <a:stretch/>
        </p:blipFill>
        <p:spPr>
          <a:xfrm>
            <a:off x="4000680" y="3143160"/>
            <a:ext cx="4827240" cy="342900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47149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. И. 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 командном пунк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 д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Бородинского с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571680" y="4357800"/>
            <a:ext cx="3071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осматривает позиции предстоящего б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3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00160" y="187200"/>
            <a:ext cx="8756640" cy="3356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357120" y="3714840"/>
            <a:ext cx="4200480" cy="27860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714920" y="3500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Бороди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было самым кровопролитным за всю историю вой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643280" y="5805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исходило над полем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глядел бой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352600" y="480960"/>
            <a:ext cx="4413240" cy="1311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5643720" y="4357800"/>
            <a:ext cx="3174840" cy="2260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3"/>
          <a:srcRect l="17873" t="12303" r="17873" b="16938"/>
          <a:stretch/>
        </p:blipFill>
        <p:spPr>
          <a:xfrm>
            <a:off x="173160" y="173160"/>
            <a:ext cx="1898640" cy="24271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4"/>
          <p:cNvSpPr/>
          <p:nvPr/>
        </p:nvSpPr>
        <p:spPr>
          <a:xfrm>
            <a:off x="2000160" y="1714680"/>
            <a:ext cx="5643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кажи-ка, дядя, ведь не 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, спаленная пожар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у отда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ь были ж схватки бое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говорят, еще как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ром помнит вся 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 день Бородин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072120" y="285840"/>
            <a:ext cx="2772000" cy="3084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3071880" y="2643120"/>
            <a:ext cx="2631960" cy="29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2695320" cy="30002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214200" y="3500280"/>
            <a:ext cx="264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тряд крестьян, отлично знающих все тропинки в лесу, выслеживает отступающих францу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2357280" y="5572080"/>
            <a:ext cx="50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. В. Давыдов — партизан-герой Отечественной войны 181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5214960" y="364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падение партиз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 французский об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0" y="63579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весь народ поднялся на борьбу с захватчикам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858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Отечественная войн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1812 год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357120" y="621504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можно назвать войну, в которой люди защищают свою Родину, свое Отечество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3:53:00Z</dcterms:modified>
  <cp:revision>16</cp:revision>
  <dc:subject/>
  <dc:title>Слайд 1</dc:title>
</cp:coreProperties>
</file>